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CBD-DDD6-42BD-B590-CAFD63C2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7E7-7E1D-421E-9E31-CFE36CE3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651-E786-4627-96BB-3EB613AE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034-3B48-452C-9E74-FF835777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476-FE91-41CA-8997-B49B64D2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96B-4A71-40E3-9EC3-A1A9E395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330-E8C4-4B1C-A6AA-4408CB52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68D-17E1-4623-9B6B-41CA90F6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FEF-E9F6-4ABA-AD02-C8AC1D02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24D-B696-4818-BA24-89615422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9CD-5C30-4EDD-8720-71DD3085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917-612C-4857-B804-6E90C674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7F0D-E5F7-4834-8595-383750D37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ff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atergat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rough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artoons &amp; Pictur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5105520"/>
            <a:ext cx="556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9ff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ffe8"/>
                </a:solidFill>
                <a:latin typeface="Arial"/>
              </a:rPr>
              <a:t>Read the information on Stage 4 in your packet and answer </a:t>
            </a:r>
            <a:r>
              <a:rPr b="0" i="1" lang="en-US" sz="3200" spc="-1" strike="noStrike">
                <a:solidFill>
                  <a:srgbClr val="b9ffe8"/>
                </a:solidFill>
                <a:latin typeface="Arial"/>
              </a:rPr>
              <a:t>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b9f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ffe8"/>
                </a:solidFill>
                <a:latin typeface="Arial"/>
              </a:rPr>
              <a:t>What did the tapes reveal about the Pres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6564" t="5207" r="23438" b="3125"/>
          <a:stretch/>
        </p:blipFill>
        <p:spPr>
          <a:xfrm>
            <a:off x="2286000" y="0"/>
            <a:ext cx="4876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9ff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ffe8"/>
                </a:solidFill>
                <a:latin typeface="Arial"/>
              </a:rPr>
              <a:t>Read the information on Stage 5 in your packet and answer </a:t>
            </a:r>
            <a:r>
              <a:rPr b="0" i="1" lang="en-US" sz="3200" spc="-1" strike="noStrike">
                <a:solidFill>
                  <a:srgbClr val="b9ffe8"/>
                </a:solidFill>
                <a:latin typeface="Arial"/>
              </a:rPr>
              <a:t>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b9f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ffe8"/>
                </a:solidFill>
                <a:latin typeface="Arial"/>
              </a:rPr>
              <a:t>Why did President Nixon resign?  Do you think he should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6564" t="6251" r="23438" b="3125"/>
          <a:stretch/>
        </p:blipFill>
        <p:spPr>
          <a:xfrm>
            <a:off x="2286000" y="0"/>
            <a:ext cx="4876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333" t="0" r="0" b="0"/>
          <a:stretch/>
        </p:blipFill>
        <p:spPr>
          <a:xfrm>
            <a:off x="0" y="1523880"/>
            <a:ext cx="9144000" cy="4015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4688" t="8431" r="0" b="20505"/>
          <a:stretch/>
        </p:blipFill>
        <p:spPr>
          <a:xfrm>
            <a:off x="0" y="1819440"/>
            <a:ext cx="8229600" cy="5038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tergat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glary of DNC headqu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Presidency: thought he was supreme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ecutive privileg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can be used in matters of nation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P Spiro Agnew resigned, Nixon announced “I am not a croo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edited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po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full tapes, went to the Supreme Co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xon resigned BEFORE full Ho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e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lost faith in the presidency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nic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mistru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9ffe8"/>
                </a:solidFill>
                <a:latin typeface="Arial"/>
              </a:rPr>
              <a:t>Ford </a:t>
            </a:r>
            <a:r>
              <a:rPr b="0" lang="en-US" sz="6000" spc="-1" strike="noStrike" u="sng">
                <a:solidFill>
                  <a:srgbClr val="b9ffe8"/>
                </a:solidFill>
                <a:uFillTx/>
                <a:latin typeface="Arial"/>
              </a:rPr>
              <a:t>pardoned</a:t>
            </a:r>
            <a:r>
              <a:rPr b="0" lang="en-US" sz="6000" spc="-1" strike="noStrike">
                <a:solidFill>
                  <a:srgbClr val="b9ffe8"/>
                </a:solidFill>
                <a:latin typeface="Arial"/>
              </a:rPr>
              <a:t> Nixon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127" t="9376" r="0" b="6251"/>
          <a:stretch/>
        </p:blipFill>
        <p:spPr>
          <a:xfrm>
            <a:off x="0" y="65556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X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Goal : “Restore Or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ly wiretapped left-wing individuals/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groups infiltrated (SDS, Black Panthers), spread conflict withi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A investigated dissidents (people opposed to government poli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IRS audit antiwar prote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an enemies list “anyone who opposes us, we’ll destro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6250" t="6251" r="0" b="625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ign Policy Accompl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Détente (easing Cold War ten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d China and 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I: Strategic Arms Limitation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number of intercontinental ballistic missiles and submarine launched miss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2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31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he information on Stage 1 in your pa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your partner, discuss these questions and write down your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cr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was the crime com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committed the cr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they trying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688" t="6251" r="0" b="5207"/>
          <a:stretch/>
        </p:blipFill>
        <p:spPr>
          <a:xfrm>
            <a:off x="0" y="0"/>
            <a:ext cx="9296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information on Stage 2 in your packet and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discovered the connection between the break-in and the Whit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other things did the investigation rev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3438" t="6251" r="21093" b="3125"/>
          <a:stretch/>
        </p:blipFill>
        <p:spPr>
          <a:xfrm>
            <a:off x="1905120" y="0"/>
            <a:ext cx="5410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9ff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ffe8"/>
                </a:solidFill>
                <a:latin typeface="Arial"/>
              </a:rPr>
              <a:t>Read the information on Stage 3 in your packet and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f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ffe8"/>
                </a:solidFill>
                <a:latin typeface="Arial"/>
              </a:rPr>
              <a:t>What happened to the burgl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ff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ffe8"/>
                </a:solidFill>
                <a:latin typeface="Arial"/>
              </a:rPr>
              <a:t>How did the crime get connected to Richard Nix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7343" t="5207" r="25003" b="3125"/>
          <a:stretch/>
        </p:blipFill>
        <p:spPr>
          <a:xfrm>
            <a:off x="2286000" y="0"/>
            <a:ext cx="46483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0:07:44Z</dcterms:created>
  <dc:creator>School District U46</dc:creator>
  <dc:description/>
  <dc:language>en-US</dc:language>
  <cp:lastModifiedBy>School District U46</cp:lastModifiedBy>
  <dcterms:modified xsi:type="dcterms:W3CDTF">2011-05-16T12:11:45Z</dcterms:modified>
  <cp:revision>19</cp:revision>
  <dc:subject/>
  <dc:title>Slide 1</dc:title>
</cp:coreProperties>
</file>